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5B8B-7AE9-4427-A10D-F9B3FC409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9800-311A-4042-B962-C0BD9D3F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3AE4-0E0E-4966-94E3-FA2117159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E04E-C3AB-4A2C-8DED-9C96E9980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ED7F-48A4-4623-97B0-46578D791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8024-5101-4F4B-9AB0-B12907F5C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C4B3A-F1F3-431E-AECE-9DABDA1FF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BFCD-7B3E-4F10-8AA6-BD33252A9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A3CA-49B1-4C46-8E31-D0B2929F5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12EB-2B16-4E84-B5A5-C769B459D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2C7C-5215-4C62-B34C-7350C4CCF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C3E5-461E-46F6-9607-52DA15E18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86E25-97B5-432E-937C-A84A4107B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09BF-F115-4BD0-A705-4DBE21B04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3E02-33A7-484C-901E-44A1658E7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F311-3C6B-4FCA-8EDE-9ED9CFE8B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4E43-EBBB-428E-BC9B-5E46D8CD2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85923-B2DF-4577-8830-6C3DDEED2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ris Cuppett - WCB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1414-22C5-4559-8A32-3D021968E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Comic Sans MS"/>
              </a:rPr>
              <a:t>Telling Time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F31A-C70A-40AA-9545-B074CC930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69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64" name="Line 77"/>
          <p:cNvSpPr/>
          <p:nvPr/>
        </p:nvSpPr>
        <p:spPr>
          <a:xfrm flipH="1" flipV="1">
            <a:off x="2133000" y="1599840"/>
            <a:ext cx="2440440" cy="185616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78"/>
          <p:cNvSpPr/>
          <p:nvPr/>
        </p:nvSpPr>
        <p:spPr>
          <a:xfrm flipV="1">
            <a:off x="4574880" y="2437920"/>
            <a:ext cx="1521360" cy="101376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9"/>
          <p:cNvSpPr/>
          <p:nvPr/>
        </p:nvSpPr>
        <p:spPr>
          <a:xfrm>
            <a:off x="5638680" y="228600"/>
            <a:ext cx="312444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1: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B141-2144-4F17-85C3-B0AFB0A57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77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44" name="Line 77"/>
          <p:cNvSpPr/>
          <p:nvPr/>
        </p:nvSpPr>
        <p:spPr>
          <a:xfrm flipV="1">
            <a:off x="4572000" y="762480"/>
            <a:ext cx="1447560" cy="2692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78"/>
          <p:cNvSpPr/>
          <p:nvPr/>
        </p:nvSpPr>
        <p:spPr>
          <a:xfrm flipV="1">
            <a:off x="4574160" y="2589840"/>
            <a:ext cx="1825920" cy="8614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79"/>
          <p:cNvSpPr/>
          <p:nvPr/>
        </p:nvSpPr>
        <p:spPr>
          <a:xfrm>
            <a:off x="5791320" y="22860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2: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ubOvalCallout"/>
          <p:cNvSpPr/>
          <p:nvPr/>
        </p:nvSpPr>
        <p:spPr>
          <a:xfrm>
            <a:off x="228600" y="152280"/>
            <a:ext cx="4191120" cy="335304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816B-00AC-49F1-920B-3F35BBF34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18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50" name="Oval 7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7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8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1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2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3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4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5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6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7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8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9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0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1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2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7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8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9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0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8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9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50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52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3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4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5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2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3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4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75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77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78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9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0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82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3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4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85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7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8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9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0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2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3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4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95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02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3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04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5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WordArt 106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WordArt 107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" name="WordArt 108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5" name="WordArt 109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" name="WordArt 110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7" name="WordArt 111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" name="WordArt 112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" name="WordArt 113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" name="WordArt 114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1" name="WordArt 115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2" name="WordArt 116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" name="WordArt 117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4" name="Line 119"/>
          <p:cNvSpPr/>
          <p:nvPr/>
        </p:nvSpPr>
        <p:spPr>
          <a:xfrm>
            <a:off x="4572000" y="3429000"/>
            <a:ext cx="0" cy="25146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0"/>
          <p:cNvSpPr/>
          <p:nvPr/>
        </p:nvSpPr>
        <p:spPr>
          <a:xfrm flipH="1">
            <a:off x="3352320" y="3429000"/>
            <a:ext cx="1219320" cy="9144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2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7: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BFC8-07E7-4D5C-BCB8-5E1662AE2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13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04" name="Line 77"/>
          <p:cNvSpPr/>
          <p:nvPr/>
        </p:nvSpPr>
        <p:spPr>
          <a:xfrm flipV="1">
            <a:off x="4572000" y="2361960"/>
            <a:ext cx="2057400" cy="10666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8"/>
          <p:cNvSpPr/>
          <p:nvPr/>
        </p:nvSpPr>
        <p:spPr>
          <a:xfrm flipH="1" flipV="1">
            <a:off x="3733920" y="1981080"/>
            <a:ext cx="838080" cy="144792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11: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2273-6EB1-4C4C-B0D8-338C2BDE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21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4" name="Line 77"/>
          <p:cNvSpPr/>
          <p:nvPr/>
        </p:nvSpPr>
        <p:spPr>
          <a:xfrm flipH="1">
            <a:off x="1980720" y="3429000"/>
            <a:ext cx="25909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8"/>
          <p:cNvSpPr/>
          <p:nvPr/>
        </p:nvSpPr>
        <p:spPr>
          <a:xfrm flipH="1">
            <a:off x="3200400" y="3429000"/>
            <a:ext cx="1371600" cy="9144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7: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4702-AFA1-4B5A-95BD-BC827F6C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29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4" name="Line 77"/>
          <p:cNvSpPr/>
          <p:nvPr/>
        </p:nvSpPr>
        <p:spPr>
          <a:xfrm>
            <a:off x="4572000" y="3429000"/>
            <a:ext cx="0" cy="24382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78"/>
          <p:cNvSpPr/>
          <p:nvPr/>
        </p:nvSpPr>
        <p:spPr>
          <a:xfrm flipV="1">
            <a:off x="4572000" y="1904760"/>
            <a:ext cx="533520" cy="15238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12: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E926-BA16-42C3-A227-5933ECAB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37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4" name="Line 77"/>
          <p:cNvSpPr/>
          <p:nvPr/>
        </p:nvSpPr>
        <p:spPr>
          <a:xfrm flipH="1" flipV="1">
            <a:off x="3276720" y="1523880"/>
            <a:ext cx="1295280" cy="190512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78"/>
          <p:cNvSpPr/>
          <p:nvPr/>
        </p:nvSpPr>
        <p:spPr>
          <a:xfrm>
            <a:off x="4572000" y="3429000"/>
            <a:ext cx="838080" cy="99072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4: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CF83-1824-45A5-869D-22EDBC564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45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24" name="Line 77"/>
          <p:cNvSpPr/>
          <p:nvPr/>
        </p:nvSpPr>
        <p:spPr>
          <a:xfrm>
            <a:off x="4573440" y="3456000"/>
            <a:ext cx="2359800" cy="116532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8"/>
          <p:cNvSpPr/>
          <p:nvPr/>
        </p:nvSpPr>
        <p:spPr>
          <a:xfrm flipH="1" flipV="1">
            <a:off x="3242160" y="2631960"/>
            <a:ext cx="1331640" cy="81936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10: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1DF5-0E3A-4175-9866-90A237188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53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04" name="Line 77"/>
          <p:cNvSpPr/>
          <p:nvPr/>
        </p:nvSpPr>
        <p:spPr>
          <a:xfrm>
            <a:off x="4573080" y="3456000"/>
            <a:ext cx="2133360" cy="180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78"/>
          <p:cNvSpPr/>
          <p:nvPr/>
        </p:nvSpPr>
        <p:spPr>
          <a:xfrm flipH="1" flipV="1">
            <a:off x="3242160" y="2631960"/>
            <a:ext cx="1331640" cy="81936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10: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ubOvalCallout"/>
          <p:cNvSpPr/>
          <p:nvPr/>
        </p:nvSpPr>
        <p:spPr>
          <a:xfrm>
            <a:off x="0" y="0"/>
            <a:ext cx="4191120" cy="33526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1BCA-A9B8-4A6D-8292-DA49108EB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61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84" name="Line 77"/>
          <p:cNvSpPr/>
          <p:nvPr/>
        </p:nvSpPr>
        <p:spPr>
          <a:xfrm flipH="1">
            <a:off x="3123720" y="3456360"/>
            <a:ext cx="1450080" cy="24868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78"/>
          <p:cNvSpPr/>
          <p:nvPr/>
        </p:nvSpPr>
        <p:spPr>
          <a:xfrm flipH="1" flipV="1">
            <a:off x="2819160" y="2971080"/>
            <a:ext cx="1756080" cy="48096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9: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ubOvalCallout"/>
          <p:cNvSpPr/>
          <p:nvPr/>
        </p:nvSpPr>
        <p:spPr>
          <a:xfrm>
            <a:off x="304920" y="228600"/>
            <a:ext cx="4190760" cy="33526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7F03-02B3-4D3F-8618-FBF9A5B84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3:09:23Z</dcterms:created>
  <dc:creator>WICBOE</dc:creator>
  <dc:description/>
  <dc:language>en-US</dc:language>
  <cp:lastModifiedBy>Julie Puck</cp:lastModifiedBy>
  <dcterms:modified xsi:type="dcterms:W3CDTF">2009-12-04T20:43:37Z</dcterms:modified>
  <cp:revision>10</cp:revision>
  <dc:subject/>
  <dc:title>Slide 1</dc:title>
</cp:coreProperties>
</file>